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A6A-D752-4884-85EC-BB31D8386C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216D-CC94-4910-B3D8-4B71D99081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box on pag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A10-1849-4463-86BF-48AD7E985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96E-D4CA-4A00-B5F2-D62EDF1A7A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44E-C691-474C-AABE-F8297507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390-AC0E-405F-92D7-4D810D82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075-F341-4E7D-8D74-B254E274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3B3-7362-46C7-901D-6FAFCAA4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135-814B-4FC4-A8CC-5C4BF1A5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B06-28B8-4153-8CBB-AB2C2437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B34-ADF1-465D-95AE-DC3BB89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46F-D851-4E97-A509-BAA5A5FB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A40-C0B1-41F6-9C33-9631C89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D04-FCAD-487E-BF8C-1F7BFFA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F62-1814-4D9C-A649-84FEB8D3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429-6805-4C5C-A020-CE72BA6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326200" y="2971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110-5B9D-4B46-BB9C-556A6D4AFA9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76620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105520" y="39099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dult Perpe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so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s for constant attention to the exclusion of friends and family are a form of isolating the victi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becomes a form of isolation when the abuser insists on being the sole focus of the victim’s lif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s that the victim must not work or denial of transportation to leave the home are extreme form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ic and physical isolation occurs when the victim is cut off from resources or protection from ab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so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tactic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ing the phone receiver (when the batterer goes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bling or destroying motor vehicles to limit the victim’s mo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ly monitoring the odometer reading on motor veh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king the thermostat in the winter (as a form of tortu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yles of Vio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of domestic violence offenders have a prior criminal history for nonviolent and violent offenses against males as well as fem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violent styles used by men against women have been identifi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rannical offen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der offen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tyles use violence as a response to intolerable emotions of anxiety or anger, and are unable to understand the impact of the violence on their part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rannical Offend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s what he is doing and intends to frighten, intimidate, and punish his part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s his violence as a justified or understandable response to frustration and an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ds to minimize his violence by admitting to having committed verbal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s his partner as being submissive and careful around h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ploder Offend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the violence to get distance from his partner and to silence 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acknowledges that he has used violence but blames his partner for provoking h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ciopathic Batterer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type of offender who is likely to have a diagnosable personality disorder or a problem with substance abu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tens to kill or commit more viol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ndency to make sexual demands after committing the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not apologetic and sometimes uses religious beliefs to justify the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isocial Batter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individual with a diagnosable mental illness or personality disorder, or a substance abuse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dangerous group of off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more likely to have a criminal re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ole of Alcohol and Drug 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a significant relationship between excessive drinking/drug use and IP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ssociation is contributory rather than caus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ce abuse increases the risk of IPV occur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ce abuse increases the severity of injury to the victi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ole of Animal Cruel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reat of violence against a pet is a strong predictor of IP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tterers who also abuse their pet use more forms of violence and demonstrate greater use of controlling behavi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t abuse has been shown to influence the decision of abused women to seek safe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users harm pets to punish the victim for leaving or to coerce them to retu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lice Officers Who Batt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indicates higher incident rates of IPV among law enforcement professiona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ocumentation of incidents varies dramatically by depart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and psychological domination is a component of the policing job, which may create occupational stress for the individual while off du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ers may experience emotional exhaustion and burnout rising to the level of posttraumatic stress disorder (PTSD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characteristics of intimate partner violence (IPV) offen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examples of intimate violence typologies, and explain how they may help criminal justice professionals better protect the survivors of IP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policy recommended by the International Association of Chiefs of Police in dealing with police officer batter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criminal justice interventions for IPV on military instal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et abuse in the context of IP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litary Offend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V committed by military personnel is challenging due to the problem of jurisdic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families live outside of military installations, and any family or IPV incident that occurs off the military installation is under the jurisdiction of local civilian author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itary-related victims fail to report for reasons similar to those of other victims of IPV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ce members must move every three years, isolating the victim, who is unable to build a support system from friends and fami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ive 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of IPV perpetrators are m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users often have low self-esteem and are overly dependent on the victi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are extremely jealous and possessi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buser blames others for his actions and denies or minimizes the effects of his violence on his victim(s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users often present a very different posture in public than they do in the privacy of their own h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ive 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ypes of violent me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amily-only offend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 These perpetrators in may have a history of exposure to aggression in their family of orig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ysphoric or borderline offend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 These men are believed to have had a history of child abuse and parental rej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enerally violent or antisocial offend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 The batterers in this category are the most aggressi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ive Wo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men perpetrate violence in intimate partner relationships at rates equal to or greater than those of m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a few studies exist on the characteristics of women who are violent toward an intimate partn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nt studies indicate women who use force in their intimate partner relationships are victims of violence who respond through self-defense and retaliatory use of for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arance, L. Y. (2006). Serving women who use force in their intimate heterosexual relationships: An extended view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Violence Against Women, 12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), 622–640. doi:10.1177/107780120629024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ffenders Against Older Adul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use of older adults is complex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der abuse is a reportable condition in all 50 states and the definition varies from state to sta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offender is a family member, it is considered domestic or family ab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perpetrator is the spouse or live-in partner of the victim, it is called intimate partner ab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terature characterizes individual batterers as problematic individuals display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or impuls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g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r of intim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otional depen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r of aband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ired ego fun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buser Characteristi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der and 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offenders of IPV are men who perpetrate against wom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IPV abuse offenders are age 30 or ol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use offenders in a dating relationship tend to be younger; about one-half of the offenders are between the ages of 18 and 29 years of 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Klein, A. (2008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ractical implications of current domestic violence research. Part II: Prosecution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National Institute of Justic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trolling Behavi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erpetrator often seeks control over the victim’s time, dress, and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ing behaviors show contempt and a general lack of respect for the part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lting behavior and put-downs are techniques used to attack the confidence of the victim and to ensure future domin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se of derogatory language in addressing one’s partner may start as the intimates develop a familiarity with each 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ear and Intimid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and intimidation 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achieved through violence or the perception of impending viol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ims of repetitive abuse recall a particular “look” from the offender that serves as a warning signal of an explosion that is about to occ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ised fist or hand in a threatening gesture serves the same purpo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earm use or display in or around the house or at pets is a severe form of intimid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imal Cruel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ults who perpetrate intimate partner violence often abuse the victim’s pet(s) as a means to control and intimidate the surviv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ip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users have been characterized as the masters of mani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ter an abusive attack, it is not unusual for the offender to beg for forgive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nrealistic demand for proof of love or loyalty is characteristic of abusive dating relationship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rcion into sexual relations as a condition of a continued relationship can be extremely dangerous for the victim during a dating relationshi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cessive Rule-Ma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partner makes rules that the other must follow, it signifies an unequal relationship based on dominanc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penalty or punishment is attached to the failure to fulfill expect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ing back a gift or present because “you are not a good girl” indicates an anticipation of rule following by the abus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es that some form of punishment will result for unfulfilled expect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21:31:15Z</dcterms:created>
  <dc:creator>cjcoordccol</dc:creator>
  <dc:description/>
  <dc:language>en-US</dc:language>
  <cp:lastModifiedBy>Cecil, Kevin</cp:lastModifiedBy>
  <dcterms:modified xsi:type="dcterms:W3CDTF">2013-09-16T14:05:50Z</dcterms:modified>
  <cp:revision>104</cp:revision>
  <dc:subject/>
  <dc:title>Slide 1</dc:title>
</cp:coreProperties>
</file>